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wmf" ContentType="image/x-wmf"/>
  <Override PartName="/ppt/media/image16.jpeg" ContentType="image/jpeg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0C5-7850-47F3-8BE4-80949213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678-9DE3-404E-9DE6-C613C9F8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DF69-54E2-4421-957F-FE5CAE9C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C58-C59F-466C-9596-054B2D69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230-9C4A-4EC1-8119-E70780B3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2B0-EFBC-4F12-8CE1-C935CAB1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B88-B19A-40BF-82F8-43F28897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0A7-9C3B-4EA7-9B0B-007FB9AD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E77-86DE-48C7-A7CA-C620AFEC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851-8139-4229-842A-5FD13C3E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9B7-DE67-4B10-AD4F-AA23842E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E1E-8129-4F4A-801B-8FDC763C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8D02-D784-454E-81A3-0E11A4249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51080" cy="2286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2266920" cy="2362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248520" y="4114800"/>
            <a:ext cx="268596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2514600"/>
            <a:ext cx="255276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 rot="19948200">
            <a:off x="5867280" y="0"/>
            <a:ext cx="2443320" cy="3200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5556240"/>
            <a:ext cx="3124080" cy="130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352680" y="4191120"/>
            <a:ext cx="2743200" cy="243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590920" y="2514600"/>
            <a:ext cx="635796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owerpoint About M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130480"/>
            <a:ext cx="7467840" cy="4727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33520" y="228600"/>
            <a:ext cx="7772400" cy="25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lie's House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0"/>
            <a:ext cx="79246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y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avorite Spor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76720" y="4572000"/>
            <a:ext cx="225108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34120" y="2438280"/>
            <a:ext cx="35049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62120" y="304920"/>
            <a:ext cx="7696080" cy="22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y Favorite Foo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0" y="3048120"/>
            <a:ext cx="1863720" cy="3055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90920" y="2590920"/>
            <a:ext cx="240012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657600" y="4419720"/>
            <a:ext cx="3124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143000" y="304920"/>
            <a:ext cx="70102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rien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11480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429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16:58Z</dcterms:created>
  <dc:creator>CGB</dc:creator>
  <dc:description/>
  <dc:language>en-US</dc:language>
  <cp:lastModifiedBy>CGB</cp:lastModifiedBy>
  <dcterms:modified xsi:type="dcterms:W3CDTF">2008-06-02T14:13:36Z</dcterms:modified>
  <cp:revision>4</cp:revision>
  <dc:subject/>
  <dc:title>Slide 1</dc:title>
</cp:coreProperties>
</file>